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68922-6CCD-4C86-A833-AE6AC756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B9288-E991-4E50-8922-D1469A40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B142C-A841-47B1-8D30-20F3B11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A430A-3FBE-45FD-9E89-82CC2233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3B6FB-8097-484A-B0C4-20DE2A8C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808DC-A8D1-4A47-9098-48DF6D11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2FA27-08AC-4117-BC73-512C09E2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BCEB1-F1EE-434C-B84C-62C07B6B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018DD-9977-42A6-AE72-4215F836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90900-718A-4C8E-AE68-86408422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FB319-7595-417C-8B3B-112AD259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93BBB-45C1-4CFA-9224-E8A2EE0D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9E4FF-818F-43F3-8256-B4867955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B86F9-FF2E-4387-AD15-6241BF9E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506BA-6034-4500-BB22-28FE1771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560D4-680B-4C02-9CB3-8121F3C5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ED14C-E323-46FD-A857-AE90CFA6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8379D-D6D1-4504-B7A5-03DF1A08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92C56-6429-40E0-A95B-CEC8C50D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21FEC-DD5F-43F3-81C1-438500D1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BA4C1-1AAC-439E-9D3E-05725D75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B76D7-4BCE-495B-B05D-78DB1FF6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5EC80-AAE6-4C11-9AC1-8141B5B3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5C892-577D-49E5-8A14-AF43CFC8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076F7-DD97-4B1B-A2D3-124031FC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8C058-08C4-4D16-8235-34B8BE23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4A542-5975-4A67-A885-06DF983E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3DB3F-9936-4912-8433-DB96A652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A2431-B977-4C84-99B3-C28B6D91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4DB56-D62D-4848-AA04-F126DF19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94029-3763-4BF8-AA90-D4605D0D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C1266-E21A-47EA-AED2-C62F9BBE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1038F-C861-4C00-8512-5A43CD6C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4AD7B-0838-4E1A-B4CE-E4ABF23A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6EC9A-E1EE-4CF8-B2AA-BD7CC057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22CDD-2FE5-460D-B60C-F82E73C3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1A38A-DCD2-4A43-B384-465471EA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FA8CB-5764-4566-B444-96A0CB2B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93F7C-E60E-4ADD-B5B0-13D37FA8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1A0B5-B5CA-4AC5-857D-6F22F7FC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0A0FA-8018-4A52-9BA8-E445D2A9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C8FDE-F1C0-4E4E-9A93-F8024E46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3FDE6-1B03-46AA-B1CE-E7353597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345BC-1947-47B6-B517-6219697D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9EB8D-88F0-41DE-AFD8-510FA186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37AAD-1C68-4AC0-919F-AA79BE1E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9727B-7325-466E-B550-C394A6CC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57138-D565-4401-BC8D-5AAEE92B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E94E4-3F00-413B-A188-EAAD0498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12423-F71E-48F1-AE6C-36287B3F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762A8-323C-418B-9AA5-40D0F57E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632D3-0ECD-4FBB-A346-DFFF4AAE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7A553-5CA6-459D-B128-8FBFC013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A77DD-8F00-4A2C-A7CA-072065C5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30057-9C44-4BEE-AD0B-368DAA37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CFFE8-7C2C-480E-9E88-A16FBE58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63EE0-68BB-4775-B1E4-D6ADBBCD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64489-E9CF-421C-AFE2-CDA76287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3C09D-5EF8-49F6-B7A4-5E147523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5D4EB-0D38-400F-8218-AA93C8F2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268FE-8A31-429A-995E-C38362A6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0D838-6881-48A4-A082-D2E3E421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73F48-D6A7-4CB3-820D-2BD3002B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ED1F3-F974-4BBC-B5EB-A31AA9AC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6814C-3024-4940-AF62-C3A88471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1548F-6285-4945-80B2-07CE7E7C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31AF4-4C2B-4951-A300-CB4C4CE0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02B20-8D89-40E4-B61D-41866A5B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BFA73-1BA2-4449-8D00-67DD8867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00399-E33D-4B68-BBE6-B6E72387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E3C7C5-3092-4AB9-943D-115DAD7A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89B19-E94B-4234-AD93-ADF3B8D9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B6BF2-7611-44F6-9E44-33343DD6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D7A3B-D299-424C-8870-E5942A2E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B309D-A318-4C30-A786-9062E453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1A8BD-ADB4-4619-A016-9380C286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B25FD-93A9-4011-ABBE-D910B0B6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90C3A-5505-47B7-9E94-C2BA8FFE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13FE3-EA93-4849-B8D4-D8230797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48E22-BE1F-489E-B0E7-1BBAE13F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CE57B-0C54-4735-ABD3-5862D980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776C1-3354-451B-B647-8D775264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8B3BD-D77D-4DD0-B215-697D8AF0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05F20-6DB4-4244-9F60-DCF04EA1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0E4C38-6E14-4069-A034-65AC04A1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E847C-5D59-4708-AC92-A43A18F7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4CAAA-DEC5-41CD-99F5-C2BA008B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68F65-5044-40FB-B4AD-D7AC99FA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7B13B5-2BD3-492E-A79C-48E3FB92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5390B-3859-4F57-8846-300BEC84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7D338-BFFC-476E-BB5C-C741C38C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DA607-55D3-4671-8BB5-F097E01F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FE9DFA-EBF9-4E85-AFA4-B4A3774A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E4B-CC29-4897-AF8B-D3161C18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DCD-97C6-4030-A225-19C589A3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1EE-14DE-4512-8032-163CE5AD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F39-3C84-48FC-AA43-851380C4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739-9CED-488B-B8C7-C1C91378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7BD-9831-4075-B5AA-72D8AF53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CF8-EEC8-4EA6-9832-E0C6527E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E9B-1BFA-4593-B5F2-4AC3B70D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BF2-F059-413E-A894-2959555F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007-D287-40BC-B8BD-396E47CA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4CA-D4AF-4E7F-B629-B0F4F1B1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868-330C-4B4C-936B-B190D31C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0696-8C9E-4870-8396-E4657DBB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831C-99C8-4C99-A57C-0FBCF86A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2202-2EB4-4F92-897C-CB567BC4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C865-8E8B-4D6C-A315-1526DDE5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2903-DAE7-444F-8664-3E00DFB2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E4D9-0EF3-449B-9216-6B59BBF3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4F91-3D32-4C4E-9A54-35B2184E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A3BE-9691-4FF4-8857-EE07A002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E5AC-9DD2-462A-BC4D-6D104ED9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0C27-61DA-4549-BF24-4739514A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4A22-5781-416C-A9E3-87B545B2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483E-D8A1-4FB4-9B3A-70690608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F782-E8FA-49D4-B425-13C07E01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8D8B4-DC36-4DC2-BB32-8EF9D662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59EB0-CDED-4705-A494-812389FE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37F6-D8A0-473B-A785-A8229E7F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DD3D0-F584-45DD-895B-B03ACA2B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770F-E5DD-45FD-A371-16D2A893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AC58-A1FC-41D3-920C-1C017CEC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1A0A5-3243-4719-8457-9380A33B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0E8E6-F73E-45B5-AD59-DC2C91DC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E7936-BC0D-405D-9490-06260CFE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5EFBF-F573-4836-BB27-781AC33A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46E56-CE0F-44DC-9AF2-97BF6DEA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195F3-B185-4336-96B0-DAFE234C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C92C8-F90F-41D5-94C6-810B001B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2EB36-36CA-4CFA-B7C3-AD8B9357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BDB95-FC19-47E4-B15D-9E2038D5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BC90A-D8F2-43FB-8BEC-4F9EEE81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0C275-EF1A-426E-B9F0-768A4843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9C4D2-F5B2-4128-8605-EAEDC3BD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F3F31-6D9D-4C81-99A4-61FADEAB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6B394-A9B0-4538-AEB0-9C7F712F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FAC33-DDA2-4E8F-8BB6-8C1981E0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C8B4-46D8-4707-AB47-39F73C5E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BE65F-C9B4-4D48-BDCC-A3F6D9B1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F2EC7-2F10-4526-9A64-BBEAE1FA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EA70A-29F1-4054-A4C7-1F85E9D9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9FE62-1A4B-46A8-94BA-64262CC0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A692B-CE36-4F8B-ABF0-225E6FBA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DD28C-9158-4A61-B3DD-93DAC248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4C565-F8A4-4A5A-A011-DDEC82C2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2023C-517B-4A8E-8570-582BD8BD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742CA-6A65-4B66-9329-F558B946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D877E-7D77-4DFC-BF21-D16A34AD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6AA8A-5737-4DBD-B97E-F39DAF4C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79AA4-53A7-498F-B7A7-3FD2C39B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E4B7B-0B3D-4AF8-9647-BD8C643F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3C4FE-40B5-465C-984C-78D6CA1D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00F25-CE9A-4317-9A5B-E519FEDE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B7C0D-1390-4B00-8C70-33E3DA0F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A5CEB-436F-4441-8566-DEF36EE7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348FA-4493-4879-B823-5E725F51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BF1AA-3819-4E85-8F53-E477F9D1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6849B-5075-4A0D-BEE5-C0C1CC5A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F026E-C9D2-4EBD-B755-0933E7BE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BF8CA-EEE5-40F0-B957-E32E1551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D6A48-E6C4-4AF1-BBAE-406D542D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26941-E53C-4511-81BE-672D2325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D97CF-7734-4648-8A73-BB8AECE1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5397B-DB57-44DD-93FF-1A86E7E5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02662-9677-481D-A954-80C503DB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82FC5-4577-4E51-8D4A-0CDB93EE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A878-9038-4A4B-B7EE-10F65388A6E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5073-4B5D-4772-9363-3D333FA3F58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2178-79DB-4371-924B-03741EE0B3A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373D-5CBC-483A-B03C-74D7CE8C2F0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6B45-C625-4A3B-9AB2-DBB7EDEF1C1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8B0B-46DC-4C34-8DC4-7CBDEF9BEF3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AF1A-B28A-4BA0-BFFD-74FE2E95481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BA423-E2EB-4B3A-A6CA-4BCA467873B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AFD0-AD7A-48E1-8594-C83684572AE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D763-CC59-4017-82E0-D78306099DC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E8B2-72DC-414C-9DD7-A5A77B79AC9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9EF8-DA79-4CEE-B507-755652D3BEF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BADC-607D-4B73-B5F6-13ED2CF3779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E188-EA97-47B6-97DE-0BBE59C174D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49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位置（二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二     位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6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1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0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05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1233360" y="1990800"/>
            <a:ext cx="6867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运用平移及数对知识解决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运用数对知识解决位置问题的应用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4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8"/>
          <p:cNvSpPr/>
          <p:nvPr/>
        </p:nvSpPr>
        <p:spPr>
          <a:xfrm>
            <a:off x="1058760" y="1360440"/>
            <a:ext cx="72723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选择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：李林家的位置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学校的位置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如果每个小正方形的边长表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李林从家出发，经过学校到少年宫，至少要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组合 1"/>
          <p:cNvGrpSpPr/>
          <p:nvPr/>
        </p:nvGrpSpPr>
        <p:grpSpPr>
          <a:xfrm>
            <a:off x="595440" y="981000"/>
            <a:ext cx="2809800" cy="668520"/>
            <a:chOff x="595440" y="981000"/>
            <a:chExt cx="2809800" cy="668520"/>
          </a:xfrm>
        </p:grpSpPr>
        <p:sp>
          <p:nvSpPr>
            <p:cNvPr id="669" name="圆角矩形 13"/>
            <p:cNvSpPr/>
            <p:nvPr/>
          </p:nvSpPr>
          <p:spPr>
            <a:xfrm>
              <a:off x="1479600" y="109368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文本框 13"/>
            <p:cNvSpPr/>
            <p:nvPr/>
          </p:nvSpPr>
          <p:spPr>
            <a:xfrm>
              <a:off x="1479600" y="108108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98100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矩形 9"/>
          <p:cNvSpPr/>
          <p:nvPr/>
        </p:nvSpPr>
        <p:spPr>
          <a:xfrm>
            <a:off x="3133800" y="284472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3" name="Picture 5" descr=""/>
          <p:cNvPicPr/>
          <p:nvPr/>
        </p:nvPicPr>
        <p:blipFill>
          <a:blip r:embed="rId2"/>
          <a:stretch/>
        </p:blipFill>
        <p:spPr>
          <a:xfrm>
            <a:off x="2916360" y="3112920"/>
            <a:ext cx="24588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6" descr=""/>
          <p:cNvPicPr/>
          <p:nvPr/>
        </p:nvPicPr>
        <p:blipFill>
          <a:blip r:embed="rId1"/>
          <a:stretch/>
        </p:blipFill>
        <p:spPr>
          <a:xfrm>
            <a:off x="2987640" y="2550960"/>
            <a:ext cx="3108240" cy="34578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8"/>
          <p:cNvSpPr/>
          <p:nvPr/>
        </p:nvSpPr>
        <p:spPr>
          <a:xfrm>
            <a:off x="684360" y="1052640"/>
            <a:ext cx="788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下图中写出三角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两个顶点的位置，将三角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向下平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方格后得到三角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′B′C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三角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′B′C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各顶点的位置表示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，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，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，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14"/>
          <p:cNvSpPr/>
          <p:nvPr/>
        </p:nvSpPr>
        <p:spPr>
          <a:xfrm>
            <a:off x="4956120" y="26622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 7"/>
          <p:cNvSpPr/>
          <p:nvPr/>
        </p:nvSpPr>
        <p:spPr>
          <a:xfrm>
            <a:off x="3525840" y="266544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8"/>
          <p:cNvSpPr/>
          <p:nvPr/>
        </p:nvSpPr>
        <p:spPr>
          <a:xfrm>
            <a:off x="2341440" y="208584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矩形 9"/>
          <p:cNvSpPr/>
          <p:nvPr/>
        </p:nvSpPr>
        <p:spPr>
          <a:xfrm>
            <a:off x="3819600" y="208584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5305320" y="209232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8"/>
          <p:cNvSpPr/>
          <p:nvPr/>
        </p:nvSpPr>
        <p:spPr>
          <a:xfrm>
            <a:off x="781200" y="933480"/>
            <a:ext cx="7400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如图是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班学生的座位图。明明原来在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最后一排，由于视力下降，老师把他的座位向前调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行，但由于身高影响了后面同学的视线，老师又把他向右移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，请在方格纸上描出最后一次明明的位置，并用数对表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2095560" cy="3124080"/>
          </a:xfrm>
          <a:prstGeom prst="rect">
            <a:avLst/>
          </a:prstGeom>
          <a:ln w="0">
            <a:noFill/>
          </a:ln>
        </p:spPr>
      </p:pic>
      <p:sp>
        <p:nvSpPr>
          <p:cNvPr id="683" name="矩形 6"/>
          <p:cNvSpPr/>
          <p:nvPr/>
        </p:nvSpPr>
        <p:spPr>
          <a:xfrm>
            <a:off x="3851280" y="33577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图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8"/>
          <p:cNvSpPr/>
          <p:nvPr/>
        </p:nvSpPr>
        <p:spPr>
          <a:xfrm>
            <a:off x="658800" y="981000"/>
            <a:ext cx="788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1120" indent="-411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养殖基地一观测者测得一只麋鹿的位置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，测得这只奔跑的麋鹿的位置已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下图中分别标出这只麋鹿两次所在的位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矩形 9"/>
          <p:cNvSpPr/>
          <p:nvPr/>
        </p:nvSpPr>
        <p:spPr>
          <a:xfrm>
            <a:off x="3433680" y="55767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2560680" y="2421000"/>
            <a:ext cx="3163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矩形 9"/>
          <p:cNvSpPr/>
          <p:nvPr/>
        </p:nvSpPr>
        <p:spPr>
          <a:xfrm>
            <a:off x="2340000" y="534816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)×15÷1.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时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答：这只麋鹿每小时大约跑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0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千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658800" y="981000"/>
            <a:ext cx="788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1120" indent="-411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养殖基地一观测者测得一只麋鹿的位置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，测得这只奔跑的麋鹿的位置已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上图中每个小方格的边长代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，这只麋鹿每小时大约跑多少千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627280" y="2411280"/>
            <a:ext cx="31654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8"/>
          <p:cNvSpPr/>
          <p:nvPr/>
        </p:nvSpPr>
        <p:spPr>
          <a:xfrm>
            <a:off x="1044720" y="1576440"/>
            <a:ext cx="777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一张方格纸上有一个长方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请你完成下面的问题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数对表示图中长方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四个顶点的位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1" name="组合 1"/>
          <p:cNvGrpSpPr/>
          <p:nvPr/>
        </p:nvGrpSpPr>
        <p:grpSpPr>
          <a:xfrm>
            <a:off x="595440" y="907920"/>
            <a:ext cx="2809800" cy="668520"/>
            <a:chOff x="595440" y="907920"/>
            <a:chExt cx="2809800" cy="668520"/>
          </a:xfrm>
        </p:grpSpPr>
        <p:sp>
          <p:nvSpPr>
            <p:cNvPr id="692" name="圆角矩形 11"/>
            <p:cNvSpPr/>
            <p:nvPr/>
          </p:nvSpPr>
          <p:spPr>
            <a:xfrm>
              <a:off x="1479600" y="102060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文本框 13"/>
            <p:cNvSpPr/>
            <p:nvPr/>
          </p:nvSpPr>
          <p:spPr>
            <a:xfrm>
              <a:off x="1479600" y="100800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90792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5" name="矩形 12"/>
          <p:cNvSpPr/>
          <p:nvPr/>
        </p:nvSpPr>
        <p:spPr>
          <a:xfrm>
            <a:off x="1630440" y="5589720"/>
            <a:ext cx="6089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10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4724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12"/>
          <p:cNvSpPr/>
          <p:nvPr/>
        </p:nvSpPr>
        <p:spPr>
          <a:xfrm>
            <a:off x="1474920" y="5373720"/>
            <a:ext cx="655308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图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8"/>
          <p:cNvSpPr/>
          <p:nvPr/>
        </p:nvSpPr>
        <p:spPr>
          <a:xfrm>
            <a:off x="826920" y="907920"/>
            <a:ext cx="7775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一张方格纸上有一个长方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请你完成下面的问题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把长方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向下平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格，画出平移后的图形，并用数对表示平移后的长方形的四个顶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位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10" descr=""/>
          <p:cNvPicPr/>
          <p:nvPr/>
        </p:nvPicPr>
        <p:blipFill>
          <a:blip r:embed="rId1"/>
          <a:stretch/>
        </p:blipFill>
        <p:spPr>
          <a:xfrm>
            <a:off x="1403280" y="1392120"/>
            <a:ext cx="47246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07T03:36:20Z</dcterms:modified>
  <cp:revision>1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